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65C4-B3FD-4DE6-88A7-93AE4DC3C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BBC-9BF3-4927-A589-44A1E97A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824-3EC0-4989-8749-EC3B4BD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D84-AD9A-410C-AFD5-B84F5DE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AED-450D-4850-9F73-0D18E875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C2F-6F0C-440F-8DFF-7791E1AA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106-B4C8-4F47-B744-450B3ACA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311-A0B9-4338-95E6-37FE168C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9F4-5A7E-452F-9E89-211966ED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269-C346-4F08-AC05-90C880C5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FBF-7D73-4F38-A17B-182A0CF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5F7-1FD8-445B-A6DE-8873218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3F9-DC4E-4F45-9515-ED9BF2B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82175-B526-4F9C-9030-76492FED4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36560" y="22860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ew Sitzma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nielle Paulozz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ew Em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uel Lin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257800" y="1279440"/>
            <a:ext cx="45720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PRE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9440"/>
            <a:ext cx="4572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ous membrane of the hard palate is yellowi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chycardia and the orthostatic changes in blood pres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cussion shows that the combined heights of the zones of hepatic dullness and hepatic flatness span a distance of 14 cm along the right midclavicular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m, regular, smooth but tender liver edge palpable below the right costal margin on inspi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720" y="73080"/>
            <a:ext cx="907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inding of the abdomin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20840" y="1341360"/>
            <a:ext cx="55627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71280"/>
            <a:ext cx="9072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finding of the abdomin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279440"/>
            <a:ext cx="45720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st percussion applied to the lower ribs above the right costal margin elicits an increase in upper abdominal pai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gallbladder is not palpable, but Murphy’s sign (interruption of inhaled breath when the patient is palpated underneath the right costal margin) is observed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 and deep palpation elicit localized tenderness in the RUQ on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279440"/>
            <a:ext cx="45720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PRE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r Inflammation (i.e. hepatitis, cirrhosi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ute Cholecystitis (i.e. gallstone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l C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: 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What’s Most Like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2712960"/>
            <a:ext cx="9069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l C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r Inflammation (i.e. hepatitis, cirrhosi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ute Cholecystitis (i.e. gallstone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: 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What’s Most Like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2712960"/>
            <a:ext cx="90694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al C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r Inflammation (i.e. hepatitis, cirrhosi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cute Cholecystitis (i.e. gallstones)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Anatomy Supporting Signs and Symptoms of th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2484000"/>
            <a:ext cx="90694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cking bile ducts causes buildup of bilirubin in blood and deposition in skin and 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rk urine due to inability of GI excretion leading to excretion of bilirubin in ur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usea, vomiting due to inability to get bile into intestine and emulsify fats/digest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 in the RUQ region due to inflamed gall blad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er pain due to irritation of the diaphrag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Anatomy Supporting Signs and Symptoms of the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59080" y="1722600"/>
            <a:ext cx="6324480" cy="50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16280" y="228600"/>
            <a:ext cx="5867280" cy="71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/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5 year old black woman admits to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apprehensive and very uncomf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her body is bent slightly forward and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ency of occurrence – After meals, Increasing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sociated symptoms – Yellow schlera, “Coke” colored urine, feverish, chills, nausea, vomiting (twice)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iation of the 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racter – moderate abdominal pain, increasing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set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day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cation – Onset in epigastric, moved to RUQ and back between shou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ration – Continuing,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acerbating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eving factors - “Attacks” 1 hr after eating, worse 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e has had no prior illness, is not taking any medications and may drink a beer with her husband on the week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68560" y="426960"/>
            <a:ext cx="822960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uld you expect radiographic evaluation of this patient to rev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92240" y="731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39960" y="579600"/>
            <a:ext cx="62485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856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44680" y="1950840"/>
            <a:ext cx="90691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 forty, female, over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Q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undice, Dark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tachycardia, tachyp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mination of differ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Murphy’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berger, Norton J. and Paumgartner, Gustav.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rrison's Onli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Chapter 292. Diseases of the Gallbladder and Bile 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o, Frank L, and Carroll, Marybeth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ey's Sign of Cholecystitis.  Hospital Physician.  2000 Nov; 51-52, 7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www.learningradiolo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www.med-ed.virginia.edu/courses/rad/edus/index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0-www.accessmedicine.com.carlson.utoledo.edu/content.aspx?aID=92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prod.hopkins-abxguide.org/diagnosis/surgical_infections/cholecystitis.html?contentInstanceId=2553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1371600"/>
            <a:ext cx="822960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 sig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ing supin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/65 left arm and 125/70 righ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/55 left arm and 110/60 righ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yth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.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800" spc="-1" strike="noStrike" baseline="9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iratory ra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’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 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1386000"/>
            <a:ext cx="822960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 sig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ying supine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20/65 left arm and 125/70 righ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nding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5/55 left arm and 110/60 righ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lse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yth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mperature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3.8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r>
              <a:rPr b="0" lang="en-US" sz="2800" spc="-1" strike="noStrike" baseline="9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piratory rate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’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ight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80 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-2232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8560" y="880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ENT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ous membrane of the hard palate is yello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ung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diovascular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hycardia and the orthostatic changes in blood pres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itourinary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culoskeletal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urologic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-2232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68560" y="880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AL EXAMINATION OF TH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dom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c Percussion shows span of 14 cm along the right midclavicular li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, regular, smooth but tender liver edge palpable below the right costal margin on inspi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t percussion applied to the lower ribs above the right costal margin elicits an increase in upper abdominal p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and deep palpation elicit localized tenderness in RUQ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lbladder is not palpable, but Murphy’s sign (interruption of inhaled breath when the patient is palpated underneath the right costal margin) is ob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2240" y="1494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44880" y="1023840"/>
            <a:ext cx="518148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26600"/>
            <a:ext cx="906948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0" lang="en-US" sz="6000" spc="-1" strike="noStrike">
                <a:solidFill>
                  <a:srgbClr val="00cc99"/>
                </a:solidFill>
                <a:latin typeface="Arial"/>
              </a:rPr>
              <a:t>you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ought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itzma</cp:lastModifiedBy>
  <dcterms:modified xsi:type="dcterms:W3CDTF">2008-01-28T14:50:47Z</dcterms:modified>
  <cp:revision>2</cp:revision>
  <dc:subject/>
  <dc:title>Slide 1</dc:title>
</cp:coreProperties>
</file>